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FE7-4903-4523-AE66-EC096183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C4BB-FDD8-4351-BC88-A7DBF2FE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4CC-945A-4235-82A8-3B6FFF9C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1DA-523C-4DC9-AD9C-955EBFC2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E8CC-3567-4ACB-B760-0AB9A635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E91-2573-4E20-BC9D-BFB653FB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EEE6-4949-42CD-8175-23E7E990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855-8B2F-418E-95BA-183295B0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197-C7A2-48E3-A324-E7B41008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354-516F-4F6C-9E65-3049B4F7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ADFC-C148-4816-8721-18F4133F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C30-48E5-4F77-9C6E-2FDF51CC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31D6-EA25-48A6-8736-00C36180DE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xwyjs.edu.cn/20020812/3063983.s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0976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0" y="174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四光，中国地质事业的奠基者和领导人。他毕生从事地质科学的研究和教育事业，成就卓著，蜚声海内外，是我国冰川学研究的奠基人。他独创的地质力学理论，为我国的地质、石油勘探和建设事业做出了巨大贡献。</a:t>
            </a:r>
            <a:r>
              <a:rPr b="1" lang="zh-CN" sz="3600" spc="-1" strike="noStrike">
                <a:solidFill>
                  <a:srgbClr val="f3f6fa"/>
                </a:solidFill>
                <a:latin typeface="楷体_GB2312"/>
                <a:ea typeface="楷体_GB2312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258200" y="177840"/>
            <a:ext cx="10542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坑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藏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考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秦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域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遗    震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6680" y="2955960"/>
            <a:ext cx="810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著   悄  闪  卧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推   旅  纪  究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52280" y="392040"/>
            <a:ext cx="3471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思考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奇怪的大石头，“怪”在哪里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9040" y="2863800"/>
            <a:ext cx="2009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李四光是如何思考和解决自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问题的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320" y="453960"/>
            <a:ext cx="90676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陨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大的流星在经过地球大气层时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没有完全烧毁坠落到地球上的含石质较多或全部为石质的陨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地质学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从事地球物质形成和地壳构造研究，以探讨地球的形成和发展的科学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突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高耸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76320" y="304920"/>
            <a:ext cx="929664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第四纪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地质历史的最后一个纪。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距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年前至今。此时高纬度地区广泛地发生了多次冰川作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秦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横贯我国中部，东西走向的古老褶皱断层山脉。我国地理上的南北分解线。分布有冰川槽谷、角峰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457200"/>
            <a:ext cx="8686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冰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在高山或两极地区，积雪由于自身的压力变成冰块（或积雪融化、下渗冻结成冰块），又因重力作用而沿着地面倾斜方面移动，这种移动的大冰块叫做冰川。在地质上的新生代第四纪，气候非常寒冷，世界上的许多地方被冰川覆盖，称第四纪冰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141720" y="5983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极冰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85341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52040" y="58514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极科学家拍摄到的海上冰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29720" y="57913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四纪冰川遗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5414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343320" y="57546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唐古拉山冰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52280"/>
            <a:ext cx="9448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奇怪  著名  悄悄  躲闪 兴趣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历史  平整  旅行  专门 考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秦岭  遗迹  研究  成果 震惊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卧室 土坑  推测   世纪  纪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质学家     严严实实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捉迷藏        转来转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22:08Z</dcterms:created>
  <dc:creator>a</dc:creator>
  <dc:description/>
  <dc:language>en-US</dc:language>
  <cp:lastModifiedBy>Sunshine</cp:lastModifiedBy>
  <dcterms:modified xsi:type="dcterms:W3CDTF">2006-05-08T21:49:38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2000000000001024120</vt:lpwstr>
  </property>
</Properties>
</file>